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8C07-DB0F-47A8-915B-45FA36B597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6B2-DBEC-4255-9F50-F7756CBA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EC8-5EF6-46B6-8AE4-BCBC90A0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8FB-F5A8-4F59-909A-6ABB0C79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FCD-4899-405C-AFDF-996CCDA9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4AC-5785-4E3C-921D-2FDB55A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38D-6F9D-465D-B793-E9230FD9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F5E-9A74-4C42-B211-0EB7C3D0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91B-46D0-45A7-BB77-E9CF26E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39E-B9A7-4497-BE24-A138B1FD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777-3FCA-446F-8322-F976A7F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9D6-CCC0-465E-B019-3BE4EB6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AEB-F60E-4223-A502-8EF278D1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7C04-F082-4193-86F6-37312F0C9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438280" y="685800"/>
            <a:ext cx="411480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21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Brush Script MT"/>
              </a:rPr>
              <a:t>Our School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f0000"/>
                  </a:gs>
                </a:gsLst>
                <a:lin ang="5400000"/>
              </a:gradFill>
              <a:latin typeface="Brush Script MT"/>
              <a:ea typeface="Brush Script M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3124080"/>
            <a:ext cx="6553080" cy="26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Brush Script MT"/>
              </a:rPr>
              <a:t>             </a:t>
            </a: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Brush Script MT"/>
              </a:rPr>
              <a:t>Done by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ffffff"/>
                  </a:gs>
                </a:gsLst>
                <a:lin ang="5400000"/>
              </a:gra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Brush Script MT"/>
              </a:rPr>
              <a:t>         </a:t>
            </a: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Brush Script MT"/>
              </a:rPr>
              <a:t>nathan beasley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ffffff"/>
                  </a:gs>
                </a:gsLst>
                <a:lin ang="5400000"/>
              </a:gradFill>
              <a:latin typeface="Brush Script MT"/>
              <a:ea typeface="Brush Script MT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819440" cy="1619280"/>
          </a:xfrm>
          <a:prstGeom prst="rect">
            <a:avLst/>
          </a:prstGeom>
          <a:ln w="0">
            <a:noFill/>
          </a:ln>
        </p:spPr>
      </p:pic>
      <p:pic>
        <p:nvPicPr>
          <p:cNvPr id="51" name="logo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90920" y="380880"/>
            <a:ext cx="4419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Brush Script MT"/>
              </a:rPr>
              <a:t>Our teache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Brush Script MT"/>
              <a:ea typeface="Brush Script MT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71800"/>
            <a:ext cx="7924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s Williams         mrss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stone               miss 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s Harper            mrss 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robins                 mrss 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s Robinson         mrss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Tho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14600" y="22860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ur da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514600"/>
            <a:ext cx="39625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do hand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e do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 have break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break do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dinner and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science or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art. Then finally ho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00400" y="762120"/>
            <a:ext cx="245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n our school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1337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school we hav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0:39Z</dcterms:created>
  <dc:creator>Glenboi</dc:creator>
  <dc:description/>
  <dc:language>en-US</dc:language>
  <cp:lastModifiedBy>Glenboi</cp:lastModifiedBy>
  <dcterms:modified xsi:type="dcterms:W3CDTF">2009-09-30T09:04:58Z</dcterms:modified>
  <cp:revision>1</cp:revision>
  <dc:subject/>
  <dc:title>PowerPoint Presentation</dc:title>
</cp:coreProperties>
</file>